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2A54-13E6-49D5-B007-0A909C618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FA2A-77AF-49D4-B70A-F230F5E6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8933C-9E06-4A5C-BA99-0C1FCAA3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C5A30-42A7-4FB3-94B5-55B03A62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A5FF7-1787-427A-B790-2EF81BE3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7CD44-6012-4307-9C6D-92049629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A6C65-133F-424B-AB2B-3C7F0831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F7A90-DB9A-474E-A0F0-A1BABD57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59E7D-78CA-4009-B584-6DA0FDC4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FDBE8-0778-4F8D-9F2C-ACD675509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E951E-37C4-4ACF-987A-476B063A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D1162D-4C41-41CF-A2FE-79060039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8DF5-9FBF-40D1-A3D2-0F717FFC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BC8C24-4BBC-4CC8-8FD2-78CF8A8C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0FEAB1-49CA-47AD-800D-C8E47F63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E2A98D-BA60-4B47-B008-AA6E3C97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86A7EF-A9C6-48F4-8AF1-3F05F021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75F021-21CE-4532-B60B-A8A0F400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3B87C6-2EAC-4CC6-AF99-EACED0C4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C39E9A-A99C-4064-B599-0DA09B48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1E630F-E6E9-4D44-A159-4FB33620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2EA60C-1D86-49DF-8592-0EC17860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63DAC5-D1AB-4E29-A476-51B16C178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39EC-2C64-42B3-8FE3-0C24BB39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E0CE4A-3ED4-4224-9036-ECBA5F1F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4B7C6-6D2F-46DF-9C48-4FDE663C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7EFB7-3441-4938-ABF1-F012AF28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CCFFA-0AE5-4E41-8482-68B34438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CA286-5ACB-4D3F-A94A-7B7A4487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514A7-D063-48BA-AB25-CEFBA42A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AEA05-A80F-49A1-95BE-15FE1B0C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0BC8C-B3E9-45B5-95D0-BB58B7F6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32099-77A8-4E67-8684-D399E09B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749F9-C249-4222-8D0D-37ABB49B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189E-8506-47FA-B2AA-1C3DFFCD3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C337C-99A7-4257-8718-8A42719E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C48AB-0E26-42D2-A589-6D2C425A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C1E61-A2BC-437B-9E9F-B8118400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AF707-A782-4007-851F-8D0D2C60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5F860D-CB88-4EEA-89DA-3E34A923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9CED2C-FE86-4026-934C-28D68952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5C5F3-494A-4A20-8BE2-82210C44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6DA195-DBF9-4FA3-93DC-559C6777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DAA9CD-6A0E-491A-895B-FEDA0321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5A86C-8BDE-4152-9178-2C173DB7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AE31-52CB-4CDF-88E4-55A57802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998F3A-D353-4EFC-ABBC-13343D31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911C6-D16C-43EF-ACFE-DF50B1D8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7D551-4337-4AC4-8F99-FD5686EF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4A1263-4476-492A-A9A1-85DEB7D42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C24E2-8FBA-4B29-86A9-E56926D93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B5DA-D24E-4012-8954-8AC1AD65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DCAB-822A-46DC-8D80-6C9F767D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6E82-BBFB-4EEC-9C85-752F9646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A217-FFF8-4B42-9046-8F16594D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8A1E-6F8E-4BF1-93B3-9008B6BA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D3DB-3D14-431A-A307-1948A30C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B7D0-CD51-4DE6-ACE1-A07C447B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54CC-D4EE-4163-A2E1-002D49A0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628C-BF6D-4005-9D78-ACC51B37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6809-D1EC-4CAB-8F69-446D56DBB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0A4F-E6A5-4BEB-9C2C-7CF6F25A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3DB6C-0C1F-42FF-9C69-94F18E82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42B0B-0A02-4E4A-AC70-8D56BB7F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F9A25-DF29-43A3-9244-1DBD1C4C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A8EB8-9115-45D7-B50B-5FF28273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4DC60-582A-4B29-9846-6B2957C8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DDBB-592E-49B8-BEE9-64F125AC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4716B-B028-4013-8B9A-A3865295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F5EF6-A936-4FB5-AED6-A0C40B05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CD3E7-A8E6-4F7A-9B11-0FC7B353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0B18A-57ED-4E67-9CD1-C3A3E1AA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7D71A-AD89-4266-8CAF-83D8AEC4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76554-4B8E-4ABE-A156-213A090B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22A33-0C3B-48B8-9CD3-73B6EDEA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7A13B-856D-48A3-933E-558A8B16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61762-BE8E-46CB-ABFE-6658CD9B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837E2-FA3E-499F-98CA-872D8B6F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E8D9-5236-4F2C-84B6-E86423DE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10738-A532-44DF-8949-CAC4EE69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50EFD-C620-46FC-97F4-1B77D48A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22589-64F9-4371-8AD8-DF0A44F9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238A5-9407-47A5-9E8F-1D5BF28B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672D1-A2F5-4196-A02B-C1F64C7E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A3911-0422-46B1-A47D-01106137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4874E-E30A-41F3-B0F8-BEF5BC77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ACD5C-E8F3-45F2-BCCE-8A03A89F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25AEF-5C7C-402E-8836-2E42D0567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C5048E-125F-426D-90A8-8C9FCF22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894E-042A-4940-91F3-D00E1B4E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8C4A3F-CCCC-4C8E-AD42-1E0D65E0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48FA3D-AFF2-4701-A59A-C640EEF0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5D68AC-A61C-409A-A3B7-5740BF70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11ED66-FB44-4B6D-A19A-4179AA06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6EB800-5BC2-41C5-A9A1-21FC9495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CCAB2E-D6EE-491C-B7CA-1ED21BA8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6E88EB-1D39-40A9-95FD-B7BEE483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F4F1E3-81FC-4685-927F-3D1053C9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12BF3A-F363-46FB-9D1C-C00F0A3D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2B24C6-C7B7-4BFE-A2BB-B3A3DD39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27D5-EC71-42FA-A2FA-D84C394B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EFC3B3-FC52-4789-B2AC-8670705C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5FA21-59F6-446A-8A18-BA779544C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9AD4B-4E13-493A-8A23-7A24990B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7E32F-D95F-47E2-9CBF-106D0E79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410CB-C091-4EB6-93DD-955A419F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AA87F-DACE-47B6-B07A-468C67ED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BC07F-6FCC-4B80-8750-FB4CDCD7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EF07F-4E06-4EB5-8BCA-08A6E469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C0C73-BEF5-4518-83C2-1160C054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98444-2080-4D01-AA88-E57B5946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34CE-2E8F-46F7-A593-35FB32EE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CA24B-5A2D-4072-A9CE-75A9CF17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FAC19-2BDF-485C-B530-B86BFB75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1B0C7-7B78-4040-9236-F19A41AE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B65AF-B67F-4536-8C43-E6C940CE8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9ED88-5713-4B45-9665-85E3D245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EAD0B-FBEE-408A-B120-16083E79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56519-D15C-4D9D-9F20-25A01046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36BF4-BC3E-46CB-AE06-6AAA2F1A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A0AF8-4948-4498-81CA-E813B715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2D90B-8F9D-4CED-91AB-EB9E8E04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3B68-A646-473B-815E-1725FF6A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B37DF-3DAE-45D4-80A5-53103FDF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7160D-AB23-4B24-972F-875B7649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EC09F-E450-4345-9870-9BCAB99A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60B23-B8BC-4EAE-B345-AB4FA22A2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1A36D-A95F-4CB7-927F-5391E570C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52876-0B70-445E-B4DF-19F75588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B2613-06A6-4A70-8D1E-05A4B680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98C87-BD59-421A-BB7D-EFB847A6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6F33D-DA8C-43E3-8CD6-618B6AC3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B6912-13EF-46EF-8851-2BB62880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1CEF-E9F7-4892-92C0-7130B443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DEC7B-1080-4102-8749-03F04052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CAE68-FA5C-429F-A69E-0240BD30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CE089-1111-43B6-AB3D-754B0F24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5245A-5320-4C9F-BE47-9F7ECE28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C0C03-7F4A-48F9-9079-D7FF1470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655EF-EAB4-46A6-8B6E-607337F95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92C38-A9FF-4B44-9D23-0F6768267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6DEA8-6B84-4399-87F8-E785CD7A7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2A779-8B93-4A53-88D4-E422EE5C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2B90D-470D-4AFA-80FF-012D95EE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8EC3-053C-4F33-B8C6-C957CF8937E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CD25-18E2-4538-AC35-293C2F90E13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CD94-3D2D-4741-A7D4-9E1FCBECD47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276D-AF8D-4789-A063-B59405858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5CEE-326A-40FA-887A-DA64E2200594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0520-3E85-4B86-802A-116007AFA62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B18C-FCF5-49A4-9BAA-5AEE8C12FB25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CDF1-2DE2-4762-A839-E8F5F3C60E7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6642-45A8-4E8C-801B-AD00773B907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3DC7-1A11-4180-A718-84FDD78ED9A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27AF-3396-47FB-99B5-79EAC24971A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5F67-2042-47D1-8D9A-022C998F2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0FB4-47C1-45BB-B65E-D0B5FB20E5C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AE36-664B-4746-9021-4595CFF63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96C8-9BE2-4015-B3DA-CC4FB4F46DE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8F59-397C-42BC-A6CF-596AC150349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CD26-E8C4-4426-B449-882DCE7C0FF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4D8B-E158-493D-BF20-3DAE4159808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6842-C543-4DBB-BF46-6F283686273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DCE9-21FE-43D3-B83A-A9A9C8408C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9BBE-50D2-4365-A60A-7FE03331B4E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4050-C5AE-4FA8-9A01-63AF8AA18DE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6EBF-58B1-4A48-BD91-FDF8D9E118E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17C8-389D-4AF6-8333-54462715E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9A3A-52AD-4FDA-91B0-1C98B8E771F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FC27B-1B92-4F71-A0E2-E02B6943039D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B9549-AA10-4197-A35A-E0B49B51D6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078117C7-4035-4C81-9ACB-95BE5A5B5CE5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5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164B4-5461-4D48-BEA4-2C4F7C1F57DB}" type="slidenum">
              <a:t>3</a:t>
            </a:fld>
          </a:p>
        </p:txBody>
      </p:sp>
    </p:spTree>
  </p:cSld>
  <p:transition>
    <p:comb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514C99-0DC1-4D8E-AE9B-B091F7F809A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AF135594-DE53-41A7-B319-9A8FAEBF1522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E92DF-5374-4205-BF03-26F2FDCA71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94B467BC-0710-4473-B705-41356E26B261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E6ECC-9E69-4F15-9582-4499994D194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3A26F5E7-9E38-4C35-8D32-F5AA7D4E27D5}" type="datetime1">
              <a:rPr lang="en-US"/>
              <a:t>07/30/26</a:t>
            </a:fld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